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466F-AEA0-4663-84AA-AE3DFF6F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5C3-885A-4219-A320-2DCE9B80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050AD-9C1F-4C9E-A517-C2427DAB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4CEDB-F511-4000-ACF6-11676548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98D51-978E-49DE-9158-AD357205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D1591-32A8-4493-961C-4F170678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D947C-112B-48C4-A7FB-2919F86B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36DBA-1CC2-4DEB-B248-C3920000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63417-B6A2-4693-940D-9BD6B8E2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A0032-6A84-4A88-882E-25455D40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63FC8-5211-4565-AC96-9524E5BD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5AFD5-83D3-42F2-A43A-B6B2F958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81B-E607-4B03-AA09-DE54A70A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8D404-473B-4827-99A6-0B6CDD18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8C858-A168-4635-953E-F61D291A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E4C19-D66E-4F52-9A67-675864DF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29767-FC22-475A-B631-99ABEBB1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34A0B-3807-4E61-9FAE-13607178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5DC74-1D86-4347-9883-C66BDEDD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DE524-B814-4843-B233-40A4CE59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1B3FB-733E-4D2F-A862-6323A17E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229AE-66BB-4EE5-8D27-6859A557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3C2C2-4035-4919-BE63-D5F06C2B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C4B-DDEB-4CB3-9ABF-7E75680F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013D3-EE0F-44BE-A460-1CF96DA0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FFBE5-4CE8-44D9-89D6-5F600161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1160B-81C6-43BA-81C8-1DC72566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F0478-C6C9-419F-9841-C6BF6D2E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708AD-54E7-4EF4-91BD-2FE901EE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43BB1-6869-4FAB-9B9D-CF05E250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AFF75-F26D-4DA7-9ADA-492145FF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CF1FC-E6E3-416D-8465-0FA74513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CE329-6B08-4F91-911D-0105E420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67841-1683-46A7-AFA6-AB00B66B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2BFE-7C83-4D43-826C-305767F8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22D7A-316A-47EE-8770-F2B37078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B5FDE-BAA4-4F67-8384-5B748105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36E5C-F727-4751-9F6E-D4961937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017B8-C7A6-44A1-89DC-D68FB17B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6687D-B19A-464B-85D2-35857A71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3C329-749F-41C1-8459-32347920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C39DA-8E9C-465E-8C69-1B9745AE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85730-108F-49C6-8F54-B67D37E8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B7783-238C-4B4F-86C9-337353C7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746D7-3CB5-43A3-A56E-FCED0F4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8778-5932-4193-BFDB-202B7C40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706A9-1E09-4545-B13A-D7CD6B15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F5182-48E7-4D54-8ACF-CE7D746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811AA-EE95-487E-B24E-3EF249FD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1E179-AEB9-4888-8D51-D2DBBBB3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050A7-D892-49A9-8163-7967BF0A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70F44-EB67-49B2-80C2-E929294B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8C990-1144-446C-834B-E6C27F8B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B4EF2-1659-49F5-87F4-C8C96E8B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F126F-3C5A-45F5-B293-D1024BB6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53A2A-B21F-4A56-8B16-65B0F1FF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9C9E-304F-4108-8C53-59F0A4D6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6F5AB-1695-4923-85F6-D9394FBB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E29B7-5881-4BD2-87E3-9D3A1C59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39254-EF17-4A5D-AC32-03D9987A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636E0-0E95-4FC6-86F7-2BB704BF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846C3-114C-4BEF-ABBF-8A8BC256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18C65-C2C1-4569-B8D1-6D9737F7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113C1-322B-490A-AB72-CBD0DEA1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43BC2-D8BC-47B5-84D9-B28CD378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CAF29-3416-4355-B489-170439C7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C5A02-C28A-4124-8EE4-C4E38286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FD40-C5A4-400E-8093-8C8289DB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DBEB3-DDEF-43CD-9656-249901F7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7673B-3BE4-4CC3-A36E-D08A8538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C5449-6572-4D92-9A47-12462027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A2AC0-B291-4D10-B49D-C9AC1110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EAB68-BCE7-4179-BE9B-31E3024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CDE8B-BFBA-4CCE-8D19-295CEE9E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0E96A-FE31-421F-B552-A60992D8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41A9F-1D64-4F9D-B8A8-9CF82298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E457D-D6B3-4CEE-9026-7CEB13EC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CAD788-AD1E-4D2F-A23F-2DDE67B6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509F-62BA-4574-83A7-3CD89F05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AA3BF-F8BA-4FAE-ACC5-C3B2057D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44CBB-5176-40A1-AE24-35FEEB0E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5F23F-6601-47FB-92BB-3B2A4E55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3CF7B-035C-4757-A957-E4C0E7EF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2B3EF-661C-4EDE-9C6F-D5990933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88687B-E859-47D9-886F-5FE0212A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1C36EE-593C-4629-8BAC-8A118C8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20A3F-4D99-48E0-80B4-4F826E9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DCF90-8342-4025-8BC1-30528482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DB6FB-85D6-46F2-A47E-525F7873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81DB-7D09-459C-834A-8C0988FD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00522F-14A6-4B3D-979D-DAD65159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96D30-29FA-4F18-A4D5-439B3376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7F2AA1-C2D7-4889-AC51-7F4A458C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5643C-7DE3-496A-AD2A-A5BF69B5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383432-CB03-4A73-8743-9B0CAD4C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5F185-DEE9-4445-A7E3-232DA9EF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3D18CC-4797-4AD6-B1EF-92DE62D7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8B3D6-0EE8-4AAF-88BF-D025668F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15B2B-2A49-474A-BE77-ABFA5F82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DB9E8-372E-438A-9400-1F888D46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9827-3312-44F1-A2F8-53DDEB25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1DB7C-FB4F-4136-8E5B-71EC851E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E628B-321E-455F-B50D-C313AB8B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C29A8-6D8B-4532-8ADF-1DE56807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93AEF-59F4-4BA4-AE65-BAAD0655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575B59-5DFA-49F7-B243-AD7F4AEB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15BF3-BD70-4658-A8AB-521EF62C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B1245-20A3-4C67-94AB-9AD64073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36F56-77DE-4291-8CD7-C3ACC89C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E7DE3-F09D-45A6-9E70-63605AA3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7738E-EB81-4468-A7FA-18C71E4D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C09-C469-4D44-97EC-0163CE49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4345-D4ED-4809-9AFA-5C6D6603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7ECD6C-8102-4B4C-B983-5B0F82F4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5F845-16C1-4C3F-ACDF-BE5089CB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070F8-5F37-43D5-9103-AAE7DD99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D11B7-1743-48F3-944B-9F92350F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5519F8-621B-4DC2-BA35-1A834BF4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BC068B-DDED-4E0B-B3DD-354E04A8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506110-FEAC-41E2-BDF0-388E24F9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1BBBC8-F0B0-41D2-B282-714A2708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41A046-5566-4594-A178-C1F53599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E39ED-7745-4868-9874-A3098082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AD26-B800-4DF4-9C9F-9340B0C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1FD2A-5BF9-4BAE-8715-221B86FF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93B6E-A9C8-4B91-B0CF-3A0A5944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E46BE-6DBD-4E1B-B93D-487DA11B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1AD37-6B1E-4B7B-B13C-26C07BD3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A49F0-07D0-43C1-9681-78A6BBB7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F55314-99C8-4B5C-A315-7C150E54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F40AB-AE8F-4D36-9883-FB024B04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C5154-B1CF-4779-A47A-CD28F2C9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D88BB-3BBD-424B-880B-F2092F78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8EDEF1-4AB3-4373-9596-67E08D8C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4C09-B573-42C2-95A3-EB318E91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624559-2CF1-4CD2-B589-7AC2CE47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BA029-EFF8-45C9-ABA2-0C2087BD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276316-D5A7-4EE2-A86D-FF77AC89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839504-F9D5-416B-A8DC-C08FFD39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03CBDA-79D8-4B99-8027-C1F85F34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01CC20-5169-49DE-8C40-B2952A93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AD0BD7-76A0-4E59-BE47-62080C03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F2131E-73FA-47D5-928D-BD712F08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140A6-B1F1-4250-A026-B5601E01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D26F7A-7D8B-4002-896A-641A542C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86D7-D564-4DA4-BCEF-A4ED7E02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881EC1-CD49-444D-95E5-269D579A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C4976-1A0C-48F4-9F07-4866D574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04D2A-72A3-4614-B6B9-B18B9933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E77D1C-2276-4EAB-8AB5-9757AA68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E4B652-28EA-4577-96C0-7BC2C705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37AC89-D62E-43A9-BBCB-38FCEE5F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042575-999E-457C-9750-498586A7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A9E97-1197-4197-BADA-D24C833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4EA33-7D00-4D38-A4BB-DAD0D24D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8386C5-E388-408C-96CF-750C9A4C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6BC8-66D6-4E16-BD9D-69DE4AD0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9050B9-D117-4A8A-B3B9-D1B0C9A0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ECBCBE-6FD2-46ED-A51D-E651D2F3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FB97A2-7C9E-4A2A-BD7D-A24408C8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0B3283-8B54-43BA-B58C-0F7E300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06CD0F-1794-4AB8-8206-08C40E40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BD67F1-6A9B-4678-8E5B-6789BAED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BA4DC-96A4-43FD-B776-41D50014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10FEF2-F970-4478-89AF-AF21F414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F5F040-A535-46AD-AD3D-6F2EFFF3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A5908C-F33F-407E-A66A-BA7361E1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6E4F-D67D-4D69-8EEC-48641EB5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5F9543-3583-44B7-BA11-E02CE469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D6FA3C-4E08-42FA-A437-1A2A95BF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2A373F-B91D-4D28-ACF1-0CD14C25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093E76-FAF6-401F-B8BB-ECC0AA77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A81277-D42E-4F5F-AD46-9DF3358B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D2FD1D-6D2D-4CDF-BA43-C5C71DEF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94F1FE-93AD-4C2E-A5E0-3DF0F2E9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CD8CA4-3176-4BBD-8788-1CCFAA51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53E452-59B5-4505-BDD6-DFF20F7D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C2A2F-6356-4CCF-B686-3352AC50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B8671-C023-457D-8650-B0AAE498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4738DF-A3CC-42E8-A949-629126A9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560F7-F969-4C10-8904-6EB4DA81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8758CE-0A6C-4063-A4E2-8643A44C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22AB12-4BA5-46AC-A188-1BB470CF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DB74B9-90A0-44E2-9765-C9729F64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6E3250-19EC-434F-895D-FC3DF1B6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210F83-A098-4664-9D6A-E495A37D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68C2DC-FDAB-45E2-8AC5-2CDAD9AE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307465-35EA-4EBB-A4BF-53CD788B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190C8C-FE61-4081-A1BD-76540D07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83CC-8E95-4794-B6A3-84EA79AD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AB0076-08BF-4383-989F-80257339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E877A8-8680-40DD-88C0-E9427832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5817C4-C540-4A10-B9DD-0C787EF7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8553D9-E88A-4E39-8D83-37A1437B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29FC08-D103-4BE5-B483-8409502A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9C4928-B6B8-4AF4-89A2-7F841BB5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AC238A-3A26-452B-818F-9C722A45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FF55-6FD2-46E4-8535-BC25C725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F4F8-C845-44FA-B1DE-DBF305F1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D5C-0779-4A8F-9214-62D4EC73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7A4F-83ED-4CFD-AD83-74271E0E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3F84-DBAF-495B-AB5D-98B954E4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83FBF-928D-4A8A-A30E-806ADAF2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9710-3E4F-4CAA-8869-287DEE48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30DD-18B6-45AC-B24B-22BBAADD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E0854-6217-4993-90F1-649A31E8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08A9-0145-4737-A556-1478ECDD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96AF1-C95E-457C-88F3-C9742009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78BF-8342-4980-9778-76DFC680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85B1B-1208-4FF0-A795-860FED43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F04-6DA5-460D-A446-06C684A9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36A0D-371D-4265-BB47-55254076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7720D-D793-4FB2-AFF8-6A0755C3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9745-2D69-496C-ACFF-546911FE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7C62F-1A82-4BF7-B511-1B41FE9D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D450-27A1-42EE-A3E6-8663844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9336-96EE-4512-9D7E-43A5A8D7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5D34-E5EF-417A-87F2-AAC04D2D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0CC3-DCD9-4A1E-B5CB-CF8CA38B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D242-ED19-4392-8F46-8BE4F246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8B56F-1F19-4B24-8BCB-3B03E9F7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E50-D0FB-4A76-AAB9-DB9AAEB9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729FE-CDBE-4F11-B82F-2E0CD9C3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5A22-8120-45F9-83D7-6EFA4331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6E5AA-799A-45CD-BB3E-2E57E904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4F8AA-A846-491A-86DF-482C5450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A0644-14B7-4770-9D41-0A143894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D00C0-CF1C-4ADF-8AA0-B444F3B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07138-FA23-4FF0-9DED-45BE392F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27BF-2CCA-479C-B0F6-27AE8598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D00C9-1E0F-4BF5-82E5-2962D775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3106-A52E-472E-9BBD-D930A8F2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432-5FDF-4CEF-9120-7D399A05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8862C-BF94-4A57-8D1F-19D80AA7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5A8C3-C440-4495-945E-EEB5E723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7A8FF-794A-405C-9AED-A30CC858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BB64C-DEE9-41A1-A41A-D2D2E1F6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E4666-60BA-4440-8954-BC4E5B0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F86A9-5F03-445B-9104-674A7116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6509D-4EDE-4ABC-905A-9DA739C2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57E8F-2060-42BE-8F23-1C6A24A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124F-2784-4268-9DA9-8FB6D938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9798-30D3-4990-8580-C12EA163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043-6E76-430F-9B54-0CDBCEBC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639B0-234F-48D0-A7B0-815583E8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B3F80-919C-42CB-A209-E111B23E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A8B9F-78EA-4D82-9D36-947E2FDD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8903E-098D-42D8-A1D5-B95E332B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3B69F-44C6-4644-BB1A-5708216C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F8B8D-5A10-4584-9F1A-08DD07DF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7D9B3-3732-4E3D-AEB2-56CC201B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3A5FF-C614-413A-9D32-D805FC89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C9BEB-BDE1-40A1-8F8F-F96E8977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EC77-6CAB-44D7-8406-6C9A252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CB2-B7A3-4A34-A366-401CBDAE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66855-29D1-41E5-9DD3-FDE07C1B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A8AE2-77F7-4B68-B37C-6B05C9C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7D8B-188E-47E9-B6C6-339A69D0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F1691-84EA-4F5E-924C-E4D4F0EB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2531-C034-41F6-AD60-42C9F09D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6841-0C2C-4D88-8E27-C8D4370B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2C840-00A1-44F5-ADD8-23BCCC19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D0B77-A3C8-43A7-BFEB-398D2204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F2E54-E3D6-4760-B05B-C1786EAA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BECC6-4FAC-4ED3-BEBE-099C5F03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CD5-A617-46AA-8DFC-B77D486D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108DD-55B6-4F0C-A681-99FA47A7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D27FC-D12E-4A95-89F0-E2762BC0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1A233-6EF0-4F1F-9134-242DD65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6743F-4897-4806-922C-F68E6A04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E3650-2A58-45B2-B4FB-E673FD2B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EB658-E693-4219-8B1B-66F1D67F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10254-9EE6-4402-A9D0-3BA4BA99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9DB49-1082-40B3-BB0D-F76E3504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84106-4F7D-4756-8426-FA46B344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06439-5283-4D2F-9476-AAF5E0BB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14CE-0588-4B72-9369-525BE3BB98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3E60-B965-45F3-840B-5AD83A4DF1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A9FD-6519-47CA-95EB-FB6EA82D4C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9DFC-E2F5-454B-BDB4-F03395A13C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94C8-DB47-4787-81A6-061821C8F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E737-B785-4AE3-9804-B889C8B48B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30AF-8705-4662-BE76-DB7C70EF21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1985-14B3-4A78-8997-817579B655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EDED-30C9-4053-ADC8-8B8729E860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A9B0-18AA-45F5-B602-79BEAFBF10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2AB3-A224-452F-9801-C5F30CA1DD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8E1F-37C5-4FB0-BA52-98718B010C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0E4-0CD8-4790-8650-0913518E98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4608-AA35-42E9-A532-DDCCB35620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1754-32BB-4119-B899-910B9E91B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61AA-A894-4859-B68E-9EF2458541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16AA-7F5C-4C3C-B79A-5C5CF7E61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B685-86C9-4AE3-8AE6-C092D398E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D0AC-D1E6-4152-84E1-7C5F65A963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AAE8-49B9-4B45-A682-9FED406720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F7EB-713E-46C7-8418-CC22BC8CE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E781-4FE2-42EE-91C3-B8D70B113A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2566-DBFD-456F-94DF-4AF620B1A0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CA3A-FE61-4D25-A6DC-D5F7D5656B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BE76-0552-41A2-A864-0B98F59055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A4AD-ECF4-49CC-B300-13474C99A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C25E-B2A7-4AA6-84D3-1079BFDA1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8E36-5C94-4EC3-8CA6-ED13BADFBD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AFF9-0DDB-4966-8527-0586844F11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2F26-9BE0-4E88-AF74-95629AE5DF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4591-15A4-4DDD-A777-070E8B0415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D061-0BFE-4AF0-B1C9-B405545224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65A9-FA7D-46AC-B558-6B5E467DD3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805F-4A29-4AB9-AECC-946A030377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744C-6094-4A0F-8B2A-E741D95E83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50B6-CB87-4C94-9B2D-9459923559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99EF-4D00-48D7-AD73-C1321087B2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012A-7059-4801-816B-BBDB0C2B1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8AFE-3266-4A96-8335-B1FE1587D7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E2EA-0614-4CD8-99F2-9132D96C84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DC65-E31A-444F-A1BA-C30709FD3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2425-85E4-4B0E-9F3E-C6A1451E88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347920" y="3143160"/>
            <a:ext cx="4448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04760" y="1052640"/>
            <a:ext cx="8934480" cy="47527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663640" cy="1368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205080" y="191628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4789440" y="1557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6099120" y="193032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683480" y="1557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755640" y="5013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1690560" y="4149720"/>
            <a:ext cx="1195560" cy="11509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3767040" y="504180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4702320" y="4178160"/>
            <a:ext cx="1195200" cy="11509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6775560" y="5013360"/>
            <a:ext cx="576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419040" y="1057320"/>
            <a:ext cx="8305920" cy="47433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826920" y="1814400"/>
            <a:ext cx="1368720" cy="3193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826920" y="2147760"/>
            <a:ext cx="1368720" cy="319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2843280" y="1800360"/>
            <a:ext cx="136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2843280" y="2133720"/>
            <a:ext cx="136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4643280" y="1800360"/>
            <a:ext cx="1368720" cy="318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4643280" y="2133720"/>
            <a:ext cx="136872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8"/>
          <a:stretch/>
        </p:blipFill>
        <p:spPr>
          <a:xfrm>
            <a:off x="6703920" y="1800360"/>
            <a:ext cx="136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9"/>
          <a:stretch/>
        </p:blipFill>
        <p:spPr>
          <a:xfrm>
            <a:off x="6703920" y="2133720"/>
            <a:ext cx="136836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10"/>
          <a:stretch/>
        </p:blipFill>
        <p:spPr>
          <a:xfrm>
            <a:off x="1042920" y="3987720"/>
            <a:ext cx="684216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11"/>
          <a:stretch/>
        </p:blipFill>
        <p:spPr>
          <a:xfrm>
            <a:off x="1042920" y="4321080"/>
            <a:ext cx="6842160" cy="319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12"/>
          <a:stretch/>
        </p:blipFill>
        <p:spPr>
          <a:xfrm>
            <a:off x="1187280" y="4667400"/>
            <a:ext cx="208944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13"/>
          <a:stretch/>
        </p:blipFill>
        <p:spPr>
          <a:xfrm>
            <a:off x="900000" y="5445000"/>
            <a:ext cx="20894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281240" y="2367000"/>
            <a:ext cx="6581520" cy="21240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8194" descr=""/>
          <p:cNvPicPr/>
          <p:nvPr/>
        </p:nvPicPr>
        <p:blipFill>
          <a:blip r:embed="rId2"/>
          <a:stretch/>
        </p:blipFill>
        <p:spPr>
          <a:xfrm>
            <a:off x="1749600" y="2809800"/>
            <a:ext cx="2180880" cy="17146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8195" descr=""/>
          <p:cNvPicPr/>
          <p:nvPr/>
        </p:nvPicPr>
        <p:blipFill>
          <a:blip r:embed="rId3"/>
          <a:stretch/>
        </p:blipFill>
        <p:spPr>
          <a:xfrm>
            <a:off x="4802040" y="2808360"/>
            <a:ext cx="27529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08:0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